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3FD-0D85-434A-8E01-3736F697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39C-04A0-4C0E-976E-ADEBA148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338-B814-45F3-BF88-317DCBE7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251-92B3-45EA-AB3F-FE08F7DE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488F-CFFD-430C-985E-0B27118C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C7DB-9BBC-49A7-816A-E00B55F0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5D51-A090-47D8-A84F-4A723FC5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A947-D9B0-499F-9E3D-8E34A51B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4494-1601-4639-848B-24A41E07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B6B8-7F24-4ECF-A9E6-E3303603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C8D0-F815-46AB-9631-ED1CEF73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2C6-8C22-4D3C-ABDE-A328A2BD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9CE8-5A16-43F9-88C0-4541391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7ABC-E54C-4203-8738-27293B1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33BA-DC2D-4A25-8B75-08701D6E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39A0-DB26-4DD0-87CF-1B2FA54B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9B76-7F46-4C7B-8A3C-8F552301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546-3589-4ECC-9240-7ADDCBB4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95F-B032-4135-99F1-3CCD840D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7A2-CEA3-4A23-8DEC-D7D79282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B05-CF65-42AA-A658-BA91560C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221-4647-47E8-9049-9B19F29F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D2F-9D9A-4119-BC13-849FFE8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270-7B20-42E6-B5CF-4360D50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BAD1-A93C-4C4B-9F34-09E26AE80F6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970C-ED44-4883-AB7C-20B39F9296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6848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20499600">
            <a:off x="833040" y="4083120"/>
            <a:ext cx="456876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ountain Building and Eros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51814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 &amp;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1600200"/>
            <a:ext cx="198108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Two Constant For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ere is always competition between these forces to shape the landscape of the Earth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19520" y="2362320"/>
            <a:ext cx="18288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1938240"/>
            <a:ext cx="2286000" cy="2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938240"/>
            <a:ext cx="2286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Ex. The Rocky Mountain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893000">
            <a:off x="1365120" y="2761920"/>
            <a:ext cx="2590920" cy="110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079400">
            <a:off x="690120" y="3088800"/>
            <a:ext cx="28195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OCDSB User</cp:lastModifiedBy>
  <dcterms:modified xsi:type="dcterms:W3CDTF">2013-02-28T17:05:25Z</dcterms:modified>
  <cp:revision>39</cp:revision>
  <dc:subject/>
  <dc:title>Slide 1</dc:title>
</cp:coreProperties>
</file>